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294-E52E-45C7-9811-CAFCEDC8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FB4-DB88-4FDB-BC3F-F9B26F8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497-D78E-4A84-A91B-2DED8817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467-CCC8-43FC-9361-E1617022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858-54FB-480D-BDBC-EA1CEF0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2C8-FE1D-4401-A765-0600DEC9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6C4-B9CA-48E9-8EFD-30963EF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FE4-A795-48D5-8A51-F1DC17D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0A6-524E-44BF-844B-F0108503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EAE-A585-4A88-997A-9FDC2A03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2F8-B627-4D02-9021-5D22EAD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DC0-D23C-4761-9704-55530B2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8BD-F26F-4A77-83C4-A1D32B63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4T14:22:55Z</dcterms:modified>
  <cp:revision>6</cp:revision>
  <dc:subject/>
  <dc:title>Présentation PowerPoint</dc:title>
</cp:coreProperties>
</file>