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C288B-7ECF-4E67-96AE-6D1E56664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75446-F60D-4D32-A322-FB880962F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9AFB3-13E6-4B36-8EEB-8C854D8A2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AD816-AF16-4B82-8B26-A27C6D4A4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7525A-41B2-4841-A07B-5EF9BAD41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23D76-C90A-454D-B6B2-0F97E266B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3C568-89DA-4FBA-BEF8-7BA86AFC9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F44B8-988D-480D-8E04-E6FD92A01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88AEA-6F2A-4B3B-8E61-EB66EE17A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E3E1C-4487-46F3-814C-5B5D3BDA5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81670-2F82-4FC4-8689-700FA096F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C9247-CFF2-4B55-9E19-34FC2FC0F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16639-CFA2-4BEA-850C-23443D2653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90920" y="76320"/>
            <a:ext cx="3200400" cy="20574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er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320" y="76320"/>
            <a:ext cx="2209680" cy="20574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ent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800600" y="533520"/>
            <a:ext cx="914400" cy="1447560"/>
          </a:xfrm>
          <a:custGeom>
            <a:avLst/>
            <a:gdLst>
              <a:gd name="textAreaLeft" fmla="*/ 44640 w 914400"/>
              <a:gd name="textAreaRight" fmla="*/ 869760 w 914400"/>
              <a:gd name="textAreaTop" fmla="*/ 44640 h 1447560"/>
              <a:gd name="textAreaBottom" fmla="*/ 1402920 h 1447560"/>
            </a:gdLst>
            <a:ahLst/>
            <a:rect l="textAreaLeft" t="textAreaTop" r="textAreaRight" b="textAreaBottom"/>
            <a:pathLst>
              <a:path w="21600" h="34189">
                <a:moveTo>
                  <a:pt x="3600" y="0"/>
                </a:moveTo>
                <a:arcTo wR="3600" hR="3600" stAng="16200000" swAng="-5400000"/>
                <a:lnTo>
                  <a:pt x="0" y="30589"/>
                </a:lnTo>
                <a:arcTo wR="3600" hR="3600" stAng="10800000" swAng="-5400000"/>
                <a:lnTo>
                  <a:pt x="18000" y="341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2a2a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o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5335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un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219320" y="5335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666880" y="5335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edir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733920" y="5335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2590920" y="76320"/>
            <a:ext cx="3200400" cy="20574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er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6320" y="76320"/>
            <a:ext cx="2209680" cy="20574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ent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800600" y="533520"/>
            <a:ext cx="914400" cy="1447560"/>
          </a:xfrm>
          <a:custGeom>
            <a:avLst/>
            <a:gdLst>
              <a:gd name="textAreaLeft" fmla="*/ 44640 w 914400"/>
              <a:gd name="textAreaRight" fmla="*/ 869760 w 914400"/>
              <a:gd name="textAreaTop" fmla="*/ 44640 h 1447560"/>
              <a:gd name="textAreaBottom" fmla="*/ 1402920 h 1447560"/>
            </a:gdLst>
            <a:ahLst/>
            <a:rect l="textAreaLeft" t="textAreaTop" r="textAreaRight" b="textAreaBottom"/>
            <a:pathLst>
              <a:path w="21600" h="34189">
                <a:moveTo>
                  <a:pt x="3600" y="0"/>
                </a:moveTo>
                <a:arcTo wR="3600" hR="3600" stAng="16200000" swAng="-5400000"/>
                <a:lnTo>
                  <a:pt x="0" y="30589"/>
                </a:lnTo>
                <a:arcTo wR="3600" hR="3600" stAng="10800000" swAng="-5400000"/>
                <a:lnTo>
                  <a:pt x="18000" y="341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2a2a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o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52280" y="5335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552d"/>
              </a:gs>
              <a:gs pos="100000">
                <a:srgbClr val="fec4b7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un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219320" y="5335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666880" y="5335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edir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733920" y="5335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990720" y="114300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ff55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590920" y="76320"/>
            <a:ext cx="3200400" cy="20574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er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76320"/>
            <a:ext cx="2209680" cy="20574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ent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800600" y="533520"/>
            <a:ext cx="914400" cy="1447560"/>
          </a:xfrm>
          <a:custGeom>
            <a:avLst/>
            <a:gdLst>
              <a:gd name="textAreaLeft" fmla="*/ 44640 w 914400"/>
              <a:gd name="textAreaRight" fmla="*/ 869760 w 914400"/>
              <a:gd name="textAreaTop" fmla="*/ 44640 h 1447560"/>
              <a:gd name="textAreaBottom" fmla="*/ 1402920 h 1447560"/>
            </a:gdLst>
            <a:ahLst/>
            <a:rect l="textAreaLeft" t="textAreaTop" r="textAreaRight" b="textAreaBottom"/>
            <a:pathLst>
              <a:path w="21600" h="34189">
                <a:moveTo>
                  <a:pt x="3600" y="0"/>
                </a:moveTo>
                <a:arcTo wR="3600" hR="3600" stAng="16200000" swAng="-5400000"/>
                <a:lnTo>
                  <a:pt x="0" y="30589"/>
                </a:lnTo>
                <a:arcTo wR="3600" hR="3600" stAng="10800000" swAng="-5400000"/>
                <a:lnTo>
                  <a:pt x="18000" y="341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2a2a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o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52280" y="5335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552d"/>
              </a:gs>
              <a:gs pos="100000">
                <a:srgbClr val="fec4b7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un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219320" y="5335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66880" y="5335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edir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733920" y="5335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990720" y="114300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ff55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590920" y="76320"/>
            <a:ext cx="3200400" cy="20574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er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6320" y="76320"/>
            <a:ext cx="2209680" cy="20574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ent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800600" y="533520"/>
            <a:ext cx="914400" cy="1447560"/>
          </a:xfrm>
          <a:custGeom>
            <a:avLst/>
            <a:gdLst>
              <a:gd name="textAreaLeft" fmla="*/ 44640 w 914400"/>
              <a:gd name="textAreaRight" fmla="*/ 869760 w 914400"/>
              <a:gd name="textAreaTop" fmla="*/ 44640 h 1447560"/>
              <a:gd name="textAreaBottom" fmla="*/ 1402920 h 1447560"/>
            </a:gdLst>
            <a:ahLst/>
            <a:rect l="textAreaLeft" t="textAreaTop" r="textAreaRight" b="textAreaBottom"/>
            <a:pathLst>
              <a:path w="21600" h="34189">
                <a:moveTo>
                  <a:pt x="3600" y="0"/>
                </a:moveTo>
                <a:arcTo wR="3600" hR="3600" stAng="16200000" swAng="-5400000"/>
                <a:lnTo>
                  <a:pt x="0" y="30589"/>
                </a:lnTo>
                <a:arcTo wR="3600" hR="3600" stAng="10800000" swAng="-5400000"/>
                <a:lnTo>
                  <a:pt x="18000" y="341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2a2a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o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52280" y="5335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un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219320" y="5335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552d"/>
              </a:gs>
              <a:gs pos="100000">
                <a:srgbClr val="fec4b7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666880" y="5335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edir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733920" y="5335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133720" y="1143000"/>
            <a:ext cx="685800" cy="228600"/>
          </a:xfrm>
          <a:prstGeom prst="rightArrow">
            <a:avLst>
              <a:gd name="adj1" fmla="val 58333"/>
              <a:gd name="adj2" fmla="val 70833"/>
            </a:avLst>
          </a:prstGeom>
          <a:solidFill>
            <a:srgbClr val="ff55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590920" y="76320"/>
            <a:ext cx="3200400" cy="20574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er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6320" y="76320"/>
            <a:ext cx="2209680" cy="20574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ent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800600" y="533520"/>
            <a:ext cx="914400" cy="1447560"/>
          </a:xfrm>
          <a:custGeom>
            <a:avLst/>
            <a:gdLst>
              <a:gd name="textAreaLeft" fmla="*/ 44640 w 914400"/>
              <a:gd name="textAreaRight" fmla="*/ 869760 w 914400"/>
              <a:gd name="textAreaTop" fmla="*/ 44640 h 1447560"/>
              <a:gd name="textAreaBottom" fmla="*/ 1402920 h 1447560"/>
            </a:gdLst>
            <a:ahLst/>
            <a:rect l="textAreaLeft" t="textAreaTop" r="textAreaRight" b="textAreaBottom"/>
            <a:pathLst>
              <a:path w="21600" h="34189">
                <a:moveTo>
                  <a:pt x="3600" y="0"/>
                </a:moveTo>
                <a:arcTo wR="3600" hR="3600" stAng="16200000" swAng="-5400000"/>
                <a:lnTo>
                  <a:pt x="0" y="30589"/>
                </a:lnTo>
                <a:arcTo wR="3600" hR="3600" stAng="10800000" swAng="-5400000"/>
                <a:lnTo>
                  <a:pt x="18000" y="341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2a2a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o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2280" y="5335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un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219320" y="5335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666880" y="5335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552d"/>
              </a:gs>
              <a:gs pos="100000">
                <a:srgbClr val="fec4b7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edir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733920" y="5335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505320" y="114300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ff55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590920" y="76320"/>
            <a:ext cx="3200400" cy="20574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er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320" y="76320"/>
            <a:ext cx="2209680" cy="20574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ent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800600" y="533520"/>
            <a:ext cx="914400" cy="1447560"/>
          </a:xfrm>
          <a:custGeom>
            <a:avLst/>
            <a:gdLst>
              <a:gd name="textAreaLeft" fmla="*/ 44640 w 914400"/>
              <a:gd name="textAreaRight" fmla="*/ 869760 w 914400"/>
              <a:gd name="textAreaTop" fmla="*/ 44640 h 1447560"/>
              <a:gd name="textAreaBottom" fmla="*/ 1402920 h 1447560"/>
            </a:gdLst>
            <a:ahLst/>
            <a:rect l="textAreaLeft" t="textAreaTop" r="textAreaRight" b="textAreaBottom"/>
            <a:pathLst>
              <a:path w="21600" h="34189">
                <a:moveTo>
                  <a:pt x="3600" y="0"/>
                </a:moveTo>
                <a:arcTo wR="3600" hR="3600" stAng="16200000" swAng="-5400000"/>
                <a:lnTo>
                  <a:pt x="0" y="30589"/>
                </a:lnTo>
                <a:arcTo wR="3600" hR="3600" stAng="10800000" swAng="-5400000"/>
                <a:lnTo>
                  <a:pt x="18000" y="341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2a2a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o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52280" y="5335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un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219320" y="5335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666880" y="5335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edir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733920" y="5335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552d"/>
              </a:gs>
              <a:gs pos="100000">
                <a:srgbClr val="fec4b7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572000" y="114300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ff55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590920" y="76320"/>
            <a:ext cx="3200400" cy="20574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er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6320" y="76320"/>
            <a:ext cx="2209680" cy="20574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ent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800600" y="533520"/>
            <a:ext cx="914400" cy="1447560"/>
          </a:xfrm>
          <a:custGeom>
            <a:avLst/>
            <a:gdLst>
              <a:gd name="textAreaLeft" fmla="*/ 44640 w 914400"/>
              <a:gd name="textAreaRight" fmla="*/ 869760 w 914400"/>
              <a:gd name="textAreaTop" fmla="*/ 44640 h 1447560"/>
              <a:gd name="textAreaBottom" fmla="*/ 1402920 h 1447560"/>
            </a:gdLst>
            <a:ahLst/>
            <a:rect l="textAreaLeft" t="textAreaTop" r="textAreaRight" b="textAreaBottom"/>
            <a:pathLst>
              <a:path w="21600" h="34189">
                <a:moveTo>
                  <a:pt x="3600" y="0"/>
                </a:moveTo>
                <a:arcTo wR="3600" hR="3600" stAng="16200000" swAng="-5400000"/>
                <a:lnTo>
                  <a:pt x="0" y="30589"/>
                </a:lnTo>
                <a:arcTo wR="3600" hR="3600" stAng="10800000" swAng="-5400000"/>
                <a:lnTo>
                  <a:pt x="18000" y="341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552d"/>
              </a:gs>
              <a:gs pos="100000">
                <a:srgbClr val="fec4b7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o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52280" y="5335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un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219320" y="5335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666880" y="5335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edir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5335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590920" y="76320"/>
            <a:ext cx="3200400" cy="20574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er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6320" y="76320"/>
            <a:ext cx="2209680" cy="20574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ent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00600" y="533520"/>
            <a:ext cx="914400" cy="1447560"/>
          </a:xfrm>
          <a:custGeom>
            <a:avLst/>
            <a:gdLst>
              <a:gd name="textAreaLeft" fmla="*/ 44640 w 914400"/>
              <a:gd name="textAreaRight" fmla="*/ 869760 w 914400"/>
              <a:gd name="textAreaTop" fmla="*/ 44640 h 1447560"/>
              <a:gd name="textAreaBottom" fmla="*/ 1402920 h 1447560"/>
            </a:gdLst>
            <a:ahLst/>
            <a:rect l="textAreaLeft" t="textAreaTop" r="textAreaRight" b="textAreaBottom"/>
            <a:pathLst>
              <a:path w="21600" h="34189">
                <a:moveTo>
                  <a:pt x="3600" y="0"/>
                </a:moveTo>
                <a:arcTo wR="3600" hR="3600" stAng="16200000" swAng="-5400000"/>
                <a:lnTo>
                  <a:pt x="0" y="30589"/>
                </a:lnTo>
                <a:arcTo wR="3600" hR="3600" stAng="10800000" swAng="-5400000"/>
                <a:lnTo>
                  <a:pt x="18000" y="341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2a2a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o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52280" y="5335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un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219320" y="5335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666880" y="5335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edir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733920" y="5335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552d"/>
              </a:gs>
              <a:gs pos="100000">
                <a:srgbClr val="fec4b7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4572000" y="114300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ff55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2590920" y="76320"/>
            <a:ext cx="3200400" cy="20574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er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6320" y="76320"/>
            <a:ext cx="2209680" cy="20574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ent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800600" y="533520"/>
            <a:ext cx="914400" cy="1447560"/>
          </a:xfrm>
          <a:custGeom>
            <a:avLst/>
            <a:gdLst>
              <a:gd name="textAreaLeft" fmla="*/ 44640 w 914400"/>
              <a:gd name="textAreaRight" fmla="*/ 869760 w 914400"/>
              <a:gd name="textAreaTop" fmla="*/ 44640 h 1447560"/>
              <a:gd name="textAreaBottom" fmla="*/ 1402920 h 1447560"/>
            </a:gdLst>
            <a:ahLst/>
            <a:rect l="textAreaLeft" t="textAreaTop" r="textAreaRight" b="textAreaBottom"/>
            <a:pathLst>
              <a:path w="21600" h="34189">
                <a:moveTo>
                  <a:pt x="3600" y="0"/>
                </a:moveTo>
                <a:arcTo wR="3600" hR="3600" stAng="16200000" swAng="-5400000"/>
                <a:lnTo>
                  <a:pt x="0" y="30589"/>
                </a:lnTo>
                <a:arcTo wR="3600" hR="3600" stAng="10800000" swAng="-5400000"/>
                <a:lnTo>
                  <a:pt x="18000" y="341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2a2a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o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52280" y="5335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un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19320" y="5335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666880" y="5335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552d"/>
              </a:gs>
              <a:gs pos="100000">
                <a:srgbClr val="fec4b7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edir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733920" y="5335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3505320" y="114300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ff55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2590920" y="76320"/>
            <a:ext cx="3200400" cy="20574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er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6320" y="76320"/>
            <a:ext cx="2209680" cy="20574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ent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800600" y="533520"/>
            <a:ext cx="914400" cy="1447560"/>
          </a:xfrm>
          <a:custGeom>
            <a:avLst/>
            <a:gdLst>
              <a:gd name="textAreaLeft" fmla="*/ 44640 w 914400"/>
              <a:gd name="textAreaRight" fmla="*/ 869760 w 914400"/>
              <a:gd name="textAreaTop" fmla="*/ 44640 h 1447560"/>
              <a:gd name="textAreaBottom" fmla="*/ 1402920 h 1447560"/>
            </a:gdLst>
            <a:ahLst/>
            <a:rect l="textAreaLeft" t="textAreaTop" r="textAreaRight" b="textAreaBottom"/>
            <a:pathLst>
              <a:path w="21600" h="34189">
                <a:moveTo>
                  <a:pt x="3600" y="0"/>
                </a:moveTo>
                <a:arcTo wR="3600" hR="3600" stAng="16200000" swAng="-5400000"/>
                <a:lnTo>
                  <a:pt x="0" y="30589"/>
                </a:lnTo>
                <a:arcTo wR="3600" hR="3600" stAng="10800000" swAng="-5400000"/>
                <a:lnTo>
                  <a:pt x="18000" y="341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2a2a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o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52280" y="5335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un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219320" y="5335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552d"/>
              </a:gs>
              <a:gs pos="100000">
                <a:srgbClr val="fec4b7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666880" y="5335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edir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733920" y="5335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2133000" y="1143000"/>
            <a:ext cx="685800" cy="228600"/>
          </a:xfrm>
          <a:prstGeom prst="rightArrow">
            <a:avLst>
              <a:gd name="adj1" fmla="val 58333"/>
              <a:gd name="adj2" fmla="val 70833"/>
            </a:avLst>
          </a:prstGeom>
          <a:solidFill>
            <a:srgbClr val="ff55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5T16:11:12Z</dcterms:created>
  <dc:creator>Vincent Massol</dc:creator>
  <dc:description/>
  <dc:language>en-US</dc:language>
  <cp:lastModifiedBy>Vincent Massol</cp:lastModifiedBy>
  <dcterms:modified xsi:type="dcterms:W3CDTF">2001-08-03T21:19:15Z</dcterms:modified>
  <cp:revision>24</cp:revision>
  <dc:subject/>
  <dc:title>Présentation PowerPoint</dc:title>
</cp:coreProperties>
</file>