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D3CE-65C4-439E-9AAD-09BE5113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4F82-6ECF-4F54-ACB4-D135DA1A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2D22-2A4A-446A-A753-2E6247D9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EE09-E9EB-48C2-A894-B896D24D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9817-35DB-4BAD-B2FC-D9199B4F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6D5E-CA22-4C93-90CB-12C1D142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1387-26C4-4915-A43C-3DE22D43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3C48-8D84-47EA-885F-9412E72B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4B62-03D9-4553-9F7F-AFBF8A4F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0AAD-69EB-4483-A6A5-07D66402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9B34-60F2-443D-A7EB-FF0B54B8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8BA-3FB4-4328-982B-3DED0AB0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1762-E187-4717-8488-E6CB84471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9-25T14:22:03Z</dcterms:modified>
  <cp:revision>5</cp:revision>
  <dc:subject/>
  <dc:title>Présentation PowerPoint</dc:title>
</cp:coreProperties>
</file>