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09B4-CFF9-4CED-94CF-0C38F54B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412F-13CA-4F0C-A9CE-3A904876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526C-ADC4-4E74-BE29-1A0306B3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CFFB-12AF-44B1-860D-E48FE972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81B6-E640-449A-95BF-82AB772F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AABD-6678-4589-B4A7-59841F82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E2A-B0A1-4F84-A680-E0C6B1BD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BD9C-4C5D-4CAA-8428-C3927CA0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6C9F-8C17-4A11-986B-6EFE023C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5F95-7AEF-4F48-9F66-64EB9B51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228B-8564-4D96-87BB-1FF758F3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A0BE-C8B8-460D-AE38-3D2BC635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60C3-8559-4C0D-9589-DF8432796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9-25T14:20:40Z</dcterms:modified>
  <cp:revision>5</cp:revision>
  <dc:subject/>
  <dc:title>Présentation PowerPoint</dc:title>
</cp:coreProperties>
</file>