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459-A4D4-48B6-9B30-FBCDD143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469-9742-454C-8E44-255CB182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873-4346-4FD3-9806-BB1543B8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C79-8C9E-430C-9998-A086EAFF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438-3836-4AF6-9FB5-8B5DD23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14C-2027-4FD0-8477-1E1AE0E3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FF1-B339-418B-8FFD-A8225798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4C6-3B18-4359-9ED0-30B2EE0B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517-04B2-4A74-BEC5-5089E0DC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2AA-AB80-4429-A83B-53E05DB4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8DC-5051-4A1D-AB34-A6D015BD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A87-5805-418F-B7FE-4B5C13E5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621E-1597-43F5-91DE-8EAA82792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19040" y="244620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1440" y="3016080"/>
            <a:ext cx="100836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71760" y="24336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484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3880" y="33321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0240" y="18381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 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22640" y="1106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68960" y="2643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6529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49400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494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58128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2933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293544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on to be 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77328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773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221472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2214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04-24T17:36:33Z</dcterms:modified>
  <cp:revision>47</cp:revision>
  <dc:subject/>
  <dc:title>Présentation PowerPoint</dc:title>
</cp:coreProperties>
</file>